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E9D-8643-40B6-8D60-F485DDDA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281-65EC-43D6-8410-13A04569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333-E643-4AFE-9AD5-45AA93C9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1C4-091E-4E63-9F9A-5798C1FC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A87-E27D-4867-B829-ABD0F30D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CF0-0C72-4411-A535-FB3DD229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DF1-2002-4E66-AE82-1D5A7E4B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3C-0858-4FBC-8591-7D296114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38680" y="609120"/>
            <a:ext cx="281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126-FAD6-4B7E-8E02-6B0D50AB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2F2-7588-4282-8623-F2A0121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B14-7DC2-4F08-97FC-CDE4677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38680" y="-512280"/>
            <a:ext cx="281952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0BB-A355-4CFA-9D78-88A651EA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86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F068-B04C-4B6C-B9F3-CC85CF87B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The Alphabe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Mrs.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/14/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 rot="18988800">
            <a:off x="609840" y="3805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 rot="1136400">
            <a:off x="1677600" y="121932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 rot="17791800">
            <a:off x="2866320" y="639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 rot="19776600">
            <a:off x="6020280" y="5181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 rot="1387800">
            <a:off x="7314480" y="46483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943600" y="838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C:\Documents and Settings\Amber\Application Data\Microsoft\Media Catalog\Downloaded Clips\cl0\AN00342_.wmf"/>
          <p:cNvPicPr/>
          <p:nvPr/>
        </p:nvPicPr>
        <p:blipFill>
          <a:blip r:embed="rId1"/>
          <a:stretch/>
        </p:blipFill>
        <p:spPr>
          <a:xfrm>
            <a:off x="1981080" y="1523880"/>
            <a:ext cx="4597560" cy="478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3124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952880" y="7621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C:\Documents and Settings\Amber\Application Data\Microsoft\Media Catalog\Downloaded Clips\cl0\AN00401_.wmf"/>
          <p:cNvPicPr/>
          <p:nvPr/>
        </p:nvPicPr>
        <p:blipFill>
          <a:blip r:embed="rId1"/>
          <a:stretch/>
        </p:blipFill>
        <p:spPr>
          <a:xfrm>
            <a:off x="2133720" y="1700280"/>
            <a:ext cx="5029200" cy="44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44197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99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99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99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248520" y="60948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th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Documents and Settings\Amber\Desktop\Pictures\Ethan Professional Photos 4-3-02\Ethanduck.jpg"/>
          <p:cNvPicPr/>
          <p:nvPr/>
        </p:nvPicPr>
        <p:blipFill>
          <a:blip r:embed="rId1"/>
          <a:stretch/>
        </p:blipFill>
        <p:spPr>
          <a:xfrm>
            <a:off x="2971800" y="1676520"/>
            <a:ext cx="3544920" cy="47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715000" y="7621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o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C:\Program Files\Common Files\Microsoft Shared\Clipart\cagcat50\AN02542_.wmf"/>
          <p:cNvPicPr/>
          <p:nvPr/>
        </p:nvPicPr>
        <p:blipFill>
          <a:blip r:embed="rId1"/>
          <a:stretch/>
        </p:blipFill>
        <p:spPr>
          <a:xfrm>
            <a:off x="1905120" y="1676520"/>
            <a:ext cx="4917960" cy="475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800600" y="7621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re tru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715000" cy="381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5000" y="838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:\Documents and Settings\Amber\Application Data\Microsoft\Media Catalog\Downloaded Clips\cl1f\j0079091.wmf"/>
          <p:cNvPicPr/>
          <p:nvPr/>
        </p:nvPicPr>
        <p:blipFill>
          <a:blip r:embed="rId1"/>
          <a:stretch/>
        </p:blipFill>
        <p:spPr>
          <a:xfrm>
            <a:off x="2286000" y="2133720"/>
            <a:ext cx="3954600" cy="426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172200" y="762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Documents and Settings\Amber\Application Data\Microsoft\Media Catalog\Downloaded Clips\cl0\FD00932_.wmf"/>
          <p:cNvPicPr/>
          <p:nvPr/>
        </p:nvPicPr>
        <p:blipFill>
          <a:blip r:embed="rId1"/>
          <a:stretch/>
        </p:blipFill>
        <p:spPr>
          <a:xfrm>
            <a:off x="1600200" y="1828800"/>
            <a:ext cx="5643720" cy="3963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705720" y="609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C:\Documents and Settings\Amber\Application Data\Microsoft\Media Catalog\Downloaded Clips\cl0\AN00610_.wmf"/>
          <p:cNvPicPr/>
          <p:nvPr/>
        </p:nvPicPr>
        <p:blipFill>
          <a:blip r:embed="rId1"/>
          <a:stretch/>
        </p:blipFill>
        <p:spPr>
          <a:xfrm>
            <a:off x="2819520" y="838080"/>
            <a:ext cx="3435120" cy="539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22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223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19920" y="6094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C:\Documents and Settings\Amber\Application Data\Microsoft\Media Catalog\Downloaded Clips\cl45\j0174379.wmf"/>
          <p:cNvPicPr/>
          <p:nvPr/>
        </p:nvPicPr>
        <p:blipFill>
          <a:blip r:embed="rId1"/>
          <a:stretch/>
        </p:blipFill>
        <p:spPr>
          <a:xfrm>
            <a:off x="1752480" y="1249200"/>
            <a:ext cx="5562720" cy="529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715000" y="53352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rac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C:\Documents and Settings\Amber\Application Data\Microsoft\Media Catalog\Downloaded Clips\cl82\j0326670.wmf"/>
          <p:cNvPicPr/>
          <p:nvPr/>
        </p:nvPicPr>
        <p:blipFill>
          <a:blip r:embed="rId1"/>
          <a:stretch/>
        </p:blipFill>
        <p:spPr>
          <a:xfrm>
            <a:off x="1371600" y="990720"/>
            <a:ext cx="5996160" cy="609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OL K.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velop an understanding of basic phonetic principles: understand that letters represent s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2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324480" y="7621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457200" y="3429000"/>
            <a:ext cx="2590920" cy="2362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86200" y="1371600"/>
            <a:ext cx="22860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105520" y="3657600"/>
            <a:ext cx="2895480" cy="2514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819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C:\Documents and Settings\Amber\Application Data\Microsoft\Media Catalog\Downloaded Clips\cl74\j0290222.wmf"/>
          <p:cNvPicPr/>
          <p:nvPr/>
        </p:nvPicPr>
        <p:blipFill>
          <a:blip r:embed="rId1"/>
          <a:stretch/>
        </p:blipFill>
        <p:spPr>
          <a:xfrm>
            <a:off x="2268360" y="1752480"/>
            <a:ext cx="4608720" cy="3373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648320" y="3049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2895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029200" y="6858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llig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Documents and Settings\Amber\Application Data\Microsoft\Media Catalog\Downloaded Clips\cl1f\j0079027.wmf"/>
          <p:cNvPicPr/>
          <p:nvPr/>
        </p:nvPicPr>
        <p:blipFill>
          <a:blip r:embed="rId1"/>
          <a:stretch/>
        </p:blipFill>
        <p:spPr>
          <a:xfrm>
            <a:off x="1143000" y="2438280"/>
            <a:ext cx="6613560" cy="309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791320" y="6858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Documents and Settings\Amber\Application Data\Microsoft\Media Catalog\Downloaded Clips\cl37\j0138371.wmf"/>
          <p:cNvPicPr/>
          <p:nvPr/>
        </p:nvPicPr>
        <p:blipFill>
          <a:blip r:embed="rId1"/>
          <a:stretch/>
        </p:blipFill>
        <p:spPr>
          <a:xfrm>
            <a:off x="2590920" y="1523880"/>
            <a:ext cx="3490920" cy="464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72200" y="5335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Documents and Settings\Amber\Application Data\Microsoft\Media Catalog\Downloaded Clips\cl0\SL00142_.wmf"/>
          <p:cNvPicPr/>
          <p:nvPr/>
        </p:nvPicPr>
        <p:blipFill>
          <a:blip r:embed="rId1"/>
          <a:stretch/>
        </p:blipFill>
        <p:spPr>
          <a:xfrm>
            <a:off x="2362320" y="1676520"/>
            <a:ext cx="4535280" cy="453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324480" y="6094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C:\Documents and Settings\Amber\Application Data\Microsoft\Media Catalog\Downloaded Clips\cl0\AN00297_.wmf"/>
          <p:cNvPicPr/>
          <p:nvPr/>
        </p:nvPicPr>
        <p:blipFill>
          <a:blip r:embed="rId1"/>
          <a:stretch/>
        </p:blipFill>
        <p:spPr>
          <a:xfrm>
            <a:off x="3200400" y="1600200"/>
            <a:ext cx="3137040" cy="440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95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3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867280" y="762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Amber\Application Data\Microsoft\Media Catalog\Downloaded Clips\cl0\TN00552_.wmf"/>
          <p:cNvPicPr/>
          <p:nvPr/>
        </p:nvPicPr>
        <p:blipFill>
          <a:blip r:embed="rId2"/>
          <a:stretch/>
        </p:blipFill>
        <p:spPr>
          <a:xfrm>
            <a:off x="685800" y="2666880"/>
            <a:ext cx="6781680" cy="301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43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43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334120" y="685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ad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Documents and Settings\Amber\Desktop\Pictures\Jason Dec. 2001.jpg"/>
          <p:cNvPicPr/>
          <p:nvPr/>
        </p:nvPicPr>
        <p:blipFill>
          <a:blip r:embed="rId1"/>
          <a:stretch/>
        </p:blipFill>
        <p:spPr>
          <a:xfrm>
            <a:off x="2895480" y="17524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2:16:26Z</dcterms:created>
  <dc:creator>Amber</dc:creator>
  <dc:description/>
  <dc:language>en-US</dc:language>
  <cp:lastModifiedBy>Help Desk</cp:lastModifiedBy>
  <dcterms:modified xsi:type="dcterms:W3CDTF">2010-08-15T03:40:17Z</dcterms:modified>
  <cp:revision>37</cp:revision>
  <dc:subject/>
  <dc:title>Ethan’s Alphabet</dc:title>
</cp:coreProperties>
</file>